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CD7-EC54-4E9E-AD03-2560FCC1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C3E-3559-4A5C-8238-2B0A784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10B-E8B1-481E-88C7-391122A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688-2139-4534-9D1F-59C9980C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0A8-8F22-4A7E-B027-05F41893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B9A-F8F0-406E-8132-6C38F73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749-F4C4-48B5-9557-672FA6A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863-5403-42D4-816E-1B19A0E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663-6C65-4461-971E-B783D87D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D7B-F88B-4394-BBFD-7560036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CBE-7B10-4923-88FB-D2BD253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9DC-C367-4D4E-8FCF-3C3766E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566-136B-4B8F-9208-201C035E8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Rikki Donachie, Robert J. Lang, and Joseph Wu Origam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atthew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obert J. Lang 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800" y="1422360"/>
            <a:ext cx="966132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1520" y="1219320"/>
            <a:ext cx="3952800" cy="257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84880" y="1219320"/>
            <a:ext cx="4002120" cy="281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360" y="4330800"/>
            <a:ext cx="394812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86400" y="4564080"/>
            <a:ext cx="3765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706752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8520" y="1116000"/>
            <a:ext cx="4695840" cy="297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1600" y="1116000"/>
            <a:ext cx="44067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Joseph Wu 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4440240" cy="340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50515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90360" y="11160"/>
            <a:ext cx="5195880" cy="548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86400" y="-101520"/>
            <a:ext cx="4381560" cy="4270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181480" y="3454560"/>
            <a:ext cx="50086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ikki Donachie 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7440" y="1015920"/>
            <a:ext cx="454356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759120"/>
            <a:ext cx="2960640" cy="389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46240" y="3556080"/>
            <a:ext cx="7193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0680" y="4368960"/>
            <a:ext cx="9173880" cy="306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14400" y="3240"/>
            <a:ext cx="9163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